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28F-183C-4240-9806-384D6C9F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446-E02E-4B0D-9EDE-8C977F4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F39-D656-4EAB-8210-8B2368A8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836-693A-413F-826D-37F731E0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DC6-085B-4E13-B56E-3CD3C9F8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5D7-4DE8-4D0E-8158-2F68963E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24F-17A0-41B4-A058-5A7565F7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166-A3D4-4C08-B971-38E0CE00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60B-8B4A-4168-9F8E-5B46FF7A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782-74AC-4465-8115-BB6AB7FB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482-CAC0-4538-9698-B90A047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35F-F63D-481F-B463-361A2454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3B58-853F-4640-9307-DC9712B44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356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505320"/>
            <a:ext cx="7924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ère Ma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adeloupe est très bonne! Aujourd’hui, je suis arrivée a l’hôtel Ti’ Figues. La plage est très belle! Je suis allée à la planche à voile. J’ai visité Grand Cul De Sac Marin. Je n’ai pas visité Parc National de la Guadeloupe. J’ai dîné a &lt;&lt;les amandlers&gt;&gt;. J’ai vu Dalia, mais je n’ai jamias vu Beca aujourd’hui, demain, je vais voir Bec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152280"/>
            <a:ext cx="4572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 Ma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jourd’hui, je suis allée en kayak. J’ai mangé le petit déjouner a Cha Cha café. Après le petit déjouner j’ai visité Bourg des Saintes. J’ai vu becca aujourd’hui. J’ai nagé dans la mer. J’ai mange le déjouner a “chez Toulouse.” puis, je suis allée  à la plage. Aprés la plage, j’ai mange le dîner au &lt;&lt;le Genois.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385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038480"/>
            <a:ext cx="655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 Ma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jourd’hui, j’ai vu Spencer. La météo aujourd’hui, je suis allée faire le shopping dans Saint Martin.J’ai acheté un collier. J’ai mange dîner au,Les Amandlers.&gt;&gt; encore. Je n’ai jamais alle dair du sur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2414520"/>
            <a:ext cx="6629400" cy="4443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60948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 Pap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matin, aprés le petit dejeurner au Cha Cha cafe, je suis allée a la voile. Je ne suis jamias au Jardin Botanique de Deshales. J’ai mange le dejourner  á l’habiscus. J’ai mangé au l’habiscus de nouveau pour le dî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360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9880"/>
            <a:ext cx="883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er Pap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jourd’hui c’est ma dernière journée! Je suis triste. Je recommande l’hôtel Ti’Figues a tout le monde. Guadeloupe est une île magnifique. Je n’ai jamias alle à Anse Tar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40:18Z</dcterms:created>
  <dc:creator>faheyale</dc:creator>
  <dc:description/>
  <dc:language>en-US</dc:language>
  <cp:lastModifiedBy>faheyale</cp:lastModifiedBy>
  <dcterms:modified xsi:type="dcterms:W3CDTF">2012-02-03T13:10:45Z</dcterms:modified>
  <cp:revision>5</cp:revision>
  <dc:subject/>
  <dc:title>Slide 1</dc:title>
</cp:coreProperties>
</file>